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82CD-90CA-47DD-AAA6-33C94676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EEC8-83EE-45AD-BCBD-995648F2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9F26-B33C-4E27-A57E-10F0415B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D313-6BFB-4041-86CD-B56CE6E0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B0F9-E4ED-4B5B-916A-E7AB504D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36EC-34F3-4A5F-92C2-4FDD6D93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B1CB-BF43-4E53-A0EE-E5022FC5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6701-CFC9-48E2-815C-CDF4CEEB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2276-3594-4EAB-9087-DD28FABC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1B01-87E7-4DA7-BA2A-46318AF2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9F9C-C0BE-4D5B-BCF1-4D04FFC8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363A-F01E-4916-976B-2EF814D3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E4AA-6B49-4089-9DE2-7814A16A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71CF-FA1F-4DF8-ACF3-E46C0FB1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328B-53D0-44CB-8A9A-61B45E2C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BDC3-7085-40CF-92BE-A953FBC0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EECE-A6B3-450D-AE47-C1C8E063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91C6-46A0-4F7C-A2A3-DEBD5D2E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3635-DEB5-4E53-ACE2-3D958FC9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CA1A-D266-4402-A0DC-64646EA8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6F2F-E470-4562-8EFD-F922E249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1A63-D5FE-4185-AA98-3D67BFDA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8DCC-E674-4FF0-ACAA-68059814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A997-32BF-4FC6-80D2-15E67D8E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82BA-36BC-4B03-9701-93C86D04B2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43D2-C284-4544-B2F4-76B3C9999F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Notification and Discover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ation B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O – December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 Best Pract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PWG Notification best practices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fication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olidate subscription attributes from various delive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Subscription and Notification schema for WBMM / P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relate with existing notification / messaging protoc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date PWG Semantic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of Notification server (serv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printer-service-proxy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er MIB top 25 – commonly instrumented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event archite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WG Notifications Statu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P Notification Base spec, IPP GET, INDP and MailTo submitted to IE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P and MailTo rejected as push security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spec scrutinized for allowing push no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sh methods with no SPAM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PS 1.2 will ship MAILTO and IND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I and IFX Server directed po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ed in Pro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IPP 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s Things to 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e call for interest on PWG-ANNO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WG Working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Practices doc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and Server best practices or conformance 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using IPP Base notification and IPP GET IETF drafts as reference (where applic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ew pending PWG working group reque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Evaluation and PWG con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d on experience and actual market n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te client con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Metho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Practices and Templates NOT in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sting Methods and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DAP (with IETF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P (with IETF templ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MTF (CIM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Directory (with Microsoft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S (with Novell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MP (basis for many printer discovery applic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nP v1 SSDP and follow-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e Rendezvous / DNS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DDI “T Model” (for public print servi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n’t scale for device disco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gnment achieved between SLP, LDAP, SNMP  and PWG Semantic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NA registered LDAP schema (RFC Pend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Domai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– SOHO (Non-routed sub 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zvous, SSDP, SLP, SN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DAP, SLP, Active Directory, NDS, *SNMP, *DNSsd, *SSD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 (Int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Printer or Print Service T model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May not scale – no directory a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urrent Capabilities Discovery and Descrip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nP DDD – pointer to SC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3C W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nP SC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of service interface and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in practice to learn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antic Model Sub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y e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Best Pract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WG Discovery Best Practices working draf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, WBMM or IFX Implementers guid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 Discovery Best Practices Guid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WG best practices on content for service / device 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datory, Recommended and Optional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WG informative guide for how to construct discovery queries / respo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 order of use for discovery protocols within a domain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– PWG Things to 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 call for interest on PWG-ANNO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WG Working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Practices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nd Server best practices or conformance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 by extracting from PSI discovery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Evaluation and PWG 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experience and actual marke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ite client con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iscovery Technology Direc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T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Conf (formerly XMLCon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NMPCon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DDI Prin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ling, cost estima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ide of our dom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s of prin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ick 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nP follow-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 Metho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Practices and Templates NOT i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ing Methods and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MPP (Instant Messag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3C (??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asis WSD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nP G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 Domai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– SO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 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S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 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23:44:35Z</dcterms:created>
  <dc:creator>Harry Lewis</dc:creator>
  <dc:description/>
  <dc:language>en-US</dc:language>
  <cp:lastModifiedBy>Harry Lewis</cp:lastModifiedBy>
  <dcterms:modified xsi:type="dcterms:W3CDTF">2003-12-05T17:56:34Z</dcterms:modified>
  <cp:revision>181</cp:revision>
  <dc:subject/>
  <dc:title>PWG – January 2003</dc:title>
</cp:coreProperties>
</file>