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DA92-22E0-4CD8-AFEB-068C547B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1312-F256-4454-BC4D-22D95DF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D3CC-0F8B-42B3-83A1-60112D8C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0698-8F62-4BE7-947F-DA273751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0D8-F4CC-42F8-8BE4-DCCF3591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B4D-DD2F-4E84-86B1-D8991EF9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4E0-1F05-4C45-9D14-391A9C71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66C1-5866-4D8A-B44B-CDEDACF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B09F-038C-42A9-9CA7-B8F09C1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1257-623A-48A4-8045-3565132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732-4097-4C7F-AA70-32E25E0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9B92-6CB0-45A4-B0DE-A071DC0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DA33-7126-486E-8920-3EADCF3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5F8-9870-422B-B73A-09C91CF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DEE0-B7D7-420C-9D71-DC962752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FE15-267E-4C42-AD49-AA5A5DB4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722-0D0D-4874-AEAF-AD88740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D6F-2671-4771-B5E3-99C86AB2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7B75-2CEA-43EE-8BEF-95B75D8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2715-7F9D-48F1-996C-6950D47E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1B1D-8EE7-4C29-B847-5AA8084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325F-CDCA-4ABC-A9B1-03205ED0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BF1B-DB68-48E5-8B3E-C98DCA4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DE4C-8931-4C5E-8A88-C7C82AB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C2C-7CE7-4354-A2CB-E83AA1CA2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B26-E311-4740-A8FF-C76A75453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inter Working Group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vo – December 2003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6019920" y="4724280"/>
          <a:ext cx="28954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724280"/>
                    <a:ext cx="2895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ne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s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l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1600200"/>
          <a:ext cx="8229600" cy="5268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4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of Ju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UPnP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gust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600200"/>
          <a:ext cx="8229600" cy="4533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pt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r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Muni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to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Redmo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987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Hallow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c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eror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eering Committee Recommend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PWG treasury report to Ple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adding PWG officer - Marke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wice yearly executive sympo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for interest on new projects (Discovery, Notifications, IPP?, Fo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other groups (UPn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coordinate better with Microsoft, FSG, W3C, Oasis and DMTF in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additional opportunities to align with standards developing in consumer and high-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TO PWG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your lo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Offic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nominee pe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 ending Sept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ir – Harry Le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e Chair – Lee F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– Jerry Thra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Bill Wagner – departing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vo 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 - WBMM 9:0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antic Model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I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P-FAX; JobX and Extensions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Notif/Discovery BOF 8:30-1: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Pro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f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pwg-process20-2003-1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WG Project Statu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completed on specification and best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l vote to close 12/19/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op planned (C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ed as footnote to semantic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B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liminary draft of specification for Ops and 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inue to work on Schema for Report, Alert, 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 on requirements docu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rmony with CIM, WSDM a go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 spec &amp; PDF/is in Last Call ending Jan 6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X Protocol spec finishing u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HTML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ss referencing CSS Print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posed Candidate Recommendation date March 2004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spec issu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scheduled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cument Object, JobX and Overides are published 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in Last Call with few minor cha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start final vote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ema planned to become final after Pro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ension model under consi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er/Finisher MIB and IANA Charset MIB in editor’s queue. Formal status pending final IANA consid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Refl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 (Character Repertoi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 (Finis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X (IPP - Fax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P (Internet Printing Protoco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P (Job Monitoring MIB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1394 (1394 Printing [inactive]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(Print Servic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(PWG Discuss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-ANNOUNCE (PWG Announc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P (Server Device Protocol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E (Asynchronous Notification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 (Semantic Mode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 (Universal Printer Driver Form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BMM (Web based device manage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P (XHTML-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ed 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source PPML consu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Test suite /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extensions spec and IP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S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TAPI, P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3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right agreement for XHTML-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Services Management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 / Feb Agenda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 – WBMM (should we go 2 day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 – Plenary / 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2004 Meeting Planning Guidelin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 - Florida, Vegas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/April -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- Vancouver B.C /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- Mont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– Madison, WI (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- San Di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ve locations vs hosted meetings vs UPnP, FSG, PODi, CIP4 harm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Veg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L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ebr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rch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457200" y="1600200"/>
          <a:ext cx="8229600" cy="4335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San J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1600200"/>
          <a:ext cx="8229600" cy="4395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(FS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1600200"/>
          <a:ext cx="8229600" cy="4967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Mo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Day; 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l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4T05:46:44Z</dcterms:modified>
  <cp:revision>168</cp:revision>
  <dc:subject/>
  <dc:title>PWG – January 2003</dc:title>
</cp:coreProperties>
</file>