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05174b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acacac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822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om Hastings, Xerox Cor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3A4ED063-10A9-492E-8B17-E6AF1D6708B7}" type="datetime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8A4217B5-4EA2-4390-83AB-18256F2441A9}" type="slidenum"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and Local devi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371600" y="3886200"/>
            <a:ext cx="6400800" cy="240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ETF SNMP + DMTF D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and Extension to multifunctio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m Has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erox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00560" y="5638680"/>
            <a:ext cx="249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271440"/>
            <a:ext cx="71629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ffff"/>
                </a:solidFill>
                <a:latin typeface="ITC Bookman"/>
                <a:ea typeface="ITC Bookman"/>
              </a:rPr>
              <a:t>DMI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57720" y="1041480"/>
            <a:ext cx="1398600" cy="187956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02120" y="1041480"/>
            <a:ext cx="1403280" cy="187956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50920" y="5130720"/>
            <a:ext cx="971640" cy="6350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67000" y="5532480"/>
            <a:ext cx="974880" cy="6476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76320" y="5978520"/>
            <a:ext cx="974880" cy="63828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27160" y="3538440"/>
            <a:ext cx="5429160" cy="100800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746440" y="4600440"/>
            <a:ext cx="2305080" cy="40176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689200" y="2989440"/>
            <a:ext cx="2444760" cy="401760"/>
          </a:xfrm>
          <a:prstGeom prst="rect">
            <a:avLst/>
          </a:prstGeom>
          <a:solidFill>
            <a:srgbClr val="114ffb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2400" y="1015920"/>
            <a:ext cx="1395360" cy="187956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68280" y="2022480"/>
            <a:ext cx="90324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48160" y="2022480"/>
            <a:ext cx="1015920" cy="7048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508040" y="1519200"/>
            <a:ext cx="4559400" cy="3430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pplic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56320" y="4094280"/>
            <a:ext cx="68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42120" y="3984480"/>
            <a:ext cx="1527120" cy="378000"/>
          </a:xfrm>
          <a:prstGeom prst="ellipse">
            <a:avLst/>
          </a:prstGeom>
          <a:solidFill>
            <a:srgbClr val="e5405d"/>
          </a:solidFill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96000" y="5130720"/>
            <a:ext cx="966960" cy="6350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8480" y="5532480"/>
            <a:ext cx="976320" cy="6476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21400" y="5978520"/>
            <a:ext cx="979560" cy="63828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92320" y="5118120"/>
            <a:ext cx="973080" cy="63504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13080" y="5516640"/>
            <a:ext cx="965160" cy="64440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20960" y="5961240"/>
            <a:ext cx="976320" cy="639720"/>
          </a:xfrm>
          <a:prstGeom prst="rect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58920" y="5786280"/>
            <a:ext cx="5222880" cy="32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and Software Compon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237440" y="3627360"/>
            <a:ext cx="1538280" cy="10936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388280" y="3946680"/>
            <a:ext cx="1224000" cy="63180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794800" y="3587760"/>
            <a:ext cx="0" cy="1119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43920" y="3332160"/>
            <a:ext cx="1550880" cy="409680"/>
          </a:xfrm>
          <a:prstGeom prst="ellipse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243920" y="3559320"/>
            <a:ext cx="0" cy="11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242120" y="4521240"/>
            <a:ext cx="1538280" cy="406440"/>
          </a:xfrm>
          <a:prstGeom prst="ellipse">
            <a:avLst/>
          </a:prstGeom>
          <a:solidFill>
            <a:srgbClr val="e5405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257960" y="4491000"/>
            <a:ext cx="1511280" cy="21420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05080" y="2009880"/>
            <a:ext cx="1157400" cy="704880"/>
          </a:xfrm>
          <a:prstGeom prst="rect">
            <a:avLst/>
          </a:prstGeom>
          <a:solidFill>
            <a:srgbClr val="e5405d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I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434280" y="1336680"/>
            <a:ext cx="560520" cy="456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4040" y="-19080"/>
            <a:ext cx="77868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to the DMI enables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1400" y="4711680"/>
            <a:ext cx="554040" cy="71928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3c3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788240" y="5124600"/>
            <a:ext cx="358920" cy="231840"/>
          </a:xfrm>
          <a:prstGeom prst="rect">
            <a:avLst/>
          </a:prstGeom>
          <a:gradFill rotWithShape="0">
            <a:gsLst>
              <a:gs pos="0">
                <a:srgbClr val="009688"/>
              </a:gs>
              <a:gs pos="100000">
                <a:srgbClr val="003c3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Remo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Ag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16000" y="3394080"/>
            <a:ext cx="1225800" cy="1182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06400" y="4214880"/>
            <a:ext cx="1533600" cy="352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76560" y="5643720"/>
            <a:ext cx="266760" cy="26676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5645160"/>
            <a:ext cx="266760" cy="266760"/>
          </a:xfrm>
          <a:prstGeom prst="ellipse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76560" y="5629320"/>
            <a:ext cx="266760" cy="26676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1760" y="3902040"/>
            <a:ext cx="1295280" cy="623880"/>
          </a:xfrm>
          <a:prstGeom prst="rect">
            <a:avLst/>
          </a:prstGeom>
          <a:solidFill>
            <a:srgbClr val="8cf4ea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8960" y="3098880"/>
            <a:ext cx="1679400" cy="55260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9520" y="2230560"/>
            <a:ext cx="1830240" cy="6318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4567320"/>
            <a:ext cx="294012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cf4e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35320" y="2598840"/>
            <a:ext cx="923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43240" y="4160880"/>
            <a:ext cx="2129040" cy="423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451240" y="5059440"/>
            <a:ext cx="728640" cy="630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984400" y="5064120"/>
            <a:ext cx="20340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76640" y="5068800"/>
            <a:ext cx="809640" cy="62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795760" y="4606920"/>
            <a:ext cx="8366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800" spc="-1" strike="noStrike">
                <a:solidFill>
                  <a:srgbClr val="8cf4ea"/>
                </a:solidFill>
                <a:latin typeface="Arial"/>
                <a:ea typeface="Arial"/>
              </a:rPr>
              <a:t>D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87800" y="5324400"/>
            <a:ext cx="608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30200" y="3946680"/>
            <a:ext cx="1257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79640" y="1657440"/>
            <a:ext cx="1587600" cy="108108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703600" y="1658880"/>
            <a:ext cx="18748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ird Par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pplications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50840" y="5913360"/>
            <a:ext cx="2013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ms,Disk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ideo &amp; Network Adap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54320" y="5937120"/>
            <a:ext cx="1446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S, Applica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rivers, B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703760" y="5937120"/>
            <a:ext cx="179388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eripher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use, Print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ms , Tape Dr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65800" y="2279520"/>
            <a:ext cx="803160" cy="61272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N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83080" y="3048120"/>
            <a:ext cx="814320" cy="6127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M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69040" y="3797280"/>
            <a:ext cx="655560" cy="110160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175360" y="1092240"/>
            <a:ext cx="11206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g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vi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916680" y="789120"/>
            <a:ext cx="19494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8960" y="2602080"/>
            <a:ext cx="1077840" cy="61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267680" y="1828800"/>
            <a:ext cx="1457280" cy="110160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NMP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176880" y="3278160"/>
            <a:ext cx="1278000" cy="1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472520" y="3116160"/>
            <a:ext cx="1457280" cy="85716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33960" y="4362480"/>
            <a:ext cx="1530360" cy="64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3120" y="4200480"/>
            <a:ext cx="1393920" cy="134604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232080" y="2592360"/>
            <a:ext cx="2124000" cy="1986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252960" y="3382920"/>
            <a:ext cx="2116080" cy="119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59080" y="2778120"/>
            <a:ext cx="0" cy="177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567560" y="4327560"/>
            <a:ext cx="14382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C L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tfor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5120" y="3095640"/>
            <a:ext cx="1392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agnostic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Ale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2800" y="2238480"/>
            <a:ext cx="1990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duct Set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d Configur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47880" y="295200"/>
            <a:ext cx="404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480000" y="1584360"/>
            <a:ext cx="56844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cecece"/>
                </a:solidFill>
                <a:latin typeface="Arial"/>
                <a:ea typeface="Arial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the Printer MIB to M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IB for managing scanner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IB for managing multifunctio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w MIB for job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functio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define scanner and FAX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scanner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ttributes of a FAX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 new DPA objec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ke print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-supported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xx-read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to multi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job has source and dest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estination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for PCs and simple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yet extend to high en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roduce idea of jobs containing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 each basic job has only one destina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bably want to allow multiple phone numbers on a single F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multi-level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rver does it transparently to cl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ient specifies scan source, print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er transforms one-level job into two-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ob contains one scan job and one print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lient submits multi-level job explici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d DPA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d create subjob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xt Ste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680" y="1447920"/>
            <a:ext cx="7848720" cy="47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people with MF expertise to define scanner/FAX SNMP device MIBs and DMI M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tup an IETF/DMTF WG to define scanners and FAX SNMP MIB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join existing IETF/DMTF PW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join some other group? MFPA W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 ISO DPA WG to extend ISO D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eep MIB objects equivalent to new DPA job, scanner/FAX device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on IETF/DMTF P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be added to email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mi-request@hpbs987.boi.hp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WG is meeting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424160" y="423720"/>
            <a:ext cx="759780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on DMT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68520" y="1868400"/>
            <a:ext cx="7300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xBACK:        (800) 525-30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k for Document #55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MTF hotline:  (503) 221-2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ite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lleti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TP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95480" y="6597720"/>
            <a:ext cx="59482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*Other brands and names are the property of their respective own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tus of SNMP, DMI, Printer MIB, Printer MIF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IETF SNMP and MI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ote management on a 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view of DMTF DMI and M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cal management on a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eps for Extension to multi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of SNMP, Printer MIB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NMPv1 internet standard 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NMPv2 approved, except for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r MIB, RFC 1759, March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s a proposed standard - at least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xt step is a draft standard - at least 3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roved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ailable:  ftp.isi.edu  /in-notes/rfc1759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of DMTF, Printer MIB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sktop Management Task Force (DMT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sortiium: DEC, HP, IBM, Intel, Microsoft, Novell, SunConnect, SynOp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MTF DMI V1.0 standard published April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r MIF, WG draft September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inter WG (PWG), joint IETF/DMTF, started Sept 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IETF SN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Network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or managing devices an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ines set and ge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data objects (attrib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nagement station issues sets and 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gent implements the sets and gets for a particular M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2286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Information Base (MIB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ed a specification for each kind of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Printer MIB, host resources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cation of data objects (attrib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amples: DeviceType, DeviceModel, InputStatus, InputMediaName, CurrentOperator, ServicePerson, ConsoleDisab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MIB, RFC 17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74 accessible objects in 8 mandator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58 accessible objects in 10 option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c0128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s Host Resouces MIB and MIB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23 accessible objects in 1 mandator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2 accessible objects in 5 option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MIB devi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371600" y="1173240"/>
            <a:ext cx="701028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MIB place in th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23880" y="895320"/>
            <a:ext cx="660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Talk given to MFPA IOC Sept 28-29, 1995</dc:description>
  <dc:language>en-US</dc:language>
  <cp:lastModifiedBy>ES Xerox</cp:lastModifiedBy>
  <cp:revision>0</cp:revision>
  <dc:subject>Extension to multifunction</dc:subject>
  <dc:title>LAN and Local Device Management</dc:title>
</cp:coreProperties>
</file>